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31C-40C7-40F9-BDF6-ED092E37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B6E-6864-4D48-A52F-DCE99752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073-7918-46D1-BBC3-D1652042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B3B-2246-4808-A1FD-422BCC03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624-607C-47EC-847A-1F93094F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96F-CDCD-426D-BACA-71F7E2BF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A38-D122-4DC2-A70A-EABAF8A1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BA7-2926-435F-B938-39B6203E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5B3-84D6-49BC-974D-6CFF95B1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58D-B075-46BA-837E-783D5616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1DA-A20A-49D7-8B22-9C2ED81D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037-7994-4207-BA9F-B575050C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CB2E-5A93-435A-9CB3-F5C0047053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titul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2535120" y="1411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466560" y="74628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ность и способность к саморазвитию и самоопред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значимых социальных и межличностных отнош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и, отражающие личностные и гражданские позиции в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компетен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созн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 ставить цели и строить жизненные пл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 к осознанию российской идентичности в поликультурном социу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826920" y="1159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ориентирован н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РТРЕТ ВЫПУСКНИКА ОСНОВНОЙ ШКОЛ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851280" y="11970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юбящий свой край и своё Оте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рав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ющий уч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актив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ющий общ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доров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иентирующийся в мире професс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8360" y="357660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должен быть челове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276720" y="1413000"/>
            <a:ext cx="358560" cy="51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8584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минимакс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ем знания по максимум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рашиваем по миним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4427640" y="400212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Ученик научитс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4427640" y="5199120"/>
            <a:ext cx="43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Ученик получит возможность научитьс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395280" y="184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е и предметные планируемые результаты разбиваются на две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682560" y="387972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о для осв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539640" y="525924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обязательно для осв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5724360" y="2781360"/>
            <a:ext cx="503280" cy="1152360"/>
          </a:xfrm>
          <a:prstGeom prst="downArrow">
            <a:avLst>
              <a:gd name="adj1" fmla="val 50000"/>
              <a:gd name="adj2" fmla="val 572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5400000">
            <a:off x="3419640" y="3547080"/>
            <a:ext cx="503280" cy="1368360"/>
          </a:xfrm>
          <a:prstGeom prst="downArrow">
            <a:avLst>
              <a:gd name="adj1" fmla="val 28083"/>
              <a:gd name="adj2" fmla="val 716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3419640" y="4926600"/>
            <a:ext cx="503280" cy="1368360"/>
          </a:xfrm>
          <a:prstGeom prst="downArrow">
            <a:avLst>
              <a:gd name="adj1" fmla="val 28083"/>
              <a:gd name="adj2" fmla="val 716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6"/>
          <p:cNvSpPr/>
          <p:nvPr/>
        </p:nvSpPr>
        <p:spPr>
          <a:xfrm>
            <a:off x="2163600" y="21420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343080" y="857160"/>
            <a:ext cx="8429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межпредметных понятий и универсальных учебных действий (УУД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ятив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тив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их использования в прак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 планирования и осуществления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учебного сотрудничества с педагогами и сверст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ие индивидуальной образовательной траек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2"/>
          <p:cNvSpPr/>
          <p:nvPr/>
        </p:nvSpPr>
        <p:spPr>
          <a:xfrm>
            <a:off x="1646280" y="1429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по образовательным областям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80720" y="141300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Фил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1478880" y="17463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ий язы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1480320" y="21528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1477800" y="25588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странный язы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179280" y="30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бщественно-научные предм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79960" y="3394080"/>
            <a:ext cx="20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рия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1478880" y="381168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общая исто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1479240" y="4229280"/>
            <a:ext cx="21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1478520" y="46465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186120" y="516420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Математика и 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0" y="57405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Основы духовно-нравственн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ы народо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4630680" y="1486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Естественнонаучные предм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5641560" y="186372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640840" y="227808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5641200" y="2709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4629240" y="32464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Искус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5643720" y="365292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искус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640480" y="4160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627080" y="479736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Техн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4598640" y="5380200"/>
            <a:ext cx="43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Физическая культура и основ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опасности жизне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6"/>
          <p:cNvSpPr/>
          <p:nvPr/>
        </p:nvSpPr>
        <p:spPr>
          <a:xfrm>
            <a:off x="4503600" y="1486080"/>
            <a:ext cx="0" cy="47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1055520" y="981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хсоставный учеб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"/>
          <p:cNvSpPr/>
          <p:nvPr/>
        </p:nvSpPr>
        <p:spPr>
          <a:xfrm>
            <a:off x="5124600" y="98100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ухсоставный учеб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"/>
          <p:cNvSpPr/>
          <p:nvPr/>
        </p:nvSpPr>
        <p:spPr>
          <a:xfrm>
            <a:off x="1055520" y="30718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"/>
          <p:cNvSpPr/>
          <p:nvPr/>
        </p:nvSpPr>
        <p:spPr>
          <a:xfrm>
            <a:off x="1055520" y="44164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1055520" y="5761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5124600" y="292428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 стандар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7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4871880" y="4268880"/>
            <a:ext cx="33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ь, формируема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частниками образовательного процесс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3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"/>
          <p:cNvSpPr/>
          <p:nvPr/>
        </p:nvSpPr>
        <p:spPr>
          <a:xfrm>
            <a:off x="3276720" y="26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947880" y="2781360"/>
            <a:ext cx="3024000" cy="381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16600" y="2781360"/>
            <a:ext cx="3024000" cy="381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208240" y="1879560"/>
            <a:ext cx="503280" cy="792360"/>
          </a:xfrm>
          <a:prstGeom prst="downArrow">
            <a:avLst>
              <a:gd name="adj1" fmla="val 50000"/>
              <a:gd name="adj2" fmla="val 393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6276960" y="1881360"/>
            <a:ext cx="503280" cy="792000"/>
          </a:xfrm>
          <a:prstGeom prst="downArrow">
            <a:avLst>
              <a:gd name="adj1" fmla="val 50000"/>
              <a:gd name="adj2" fmla="val 393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146160" y="235080"/>
            <a:ext cx="64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ая программа по предмету, кур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"/>
          <p:cNvSpPr/>
          <p:nvPr/>
        </p:nvSpPr>
        <p:spPr>
          <a:xfrm>
            <a:off x="1690560" y="836640"/>
            <a:ext cx="54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ые предметы по Б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"/>
          <p:cNvSpPr/>
          <p:nvPr/>
        </p:nvSpPr>
        <p:spPr>
          <a:xfrm>
            <a:off x="1690560" y="14349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ые предметы и курсы (обязательные, элективные, факультатив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1690560" y="23986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гративные к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"/>
          <p:cNvSpPr/>
          <p:nvPr/>
        </p:nvSpPr>
        <p:spPr>
          <a:xfrm>
            <a:off x="1690560" y="2997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урсы в рамках внеурочной деятельности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108000" y="3645000"/>
            <a:ext cx="65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рабочие программы составляются учител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учетом конкретных условий (особенност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гиона (района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кретных уче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ого учреж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ьно-технической б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"/>
          <p:cNvSpPr/>
          <p:nvPr/>
        </p:nvSpPr>
        <p:spPr>
          <a:xfrm>
            <a:off x="1379520" y="58053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рабочие программы составляются учител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«Примерных программ по предмет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5"/>
          <p:cNvSpPr/>
          <p:nvPr/>
        </p:nvSpPr>
        <p:spPr>
          <a:xfrm>
            <a:off x="1060560" y="763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ие программы отдельных учебных предметов, курсов должны содерж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6"/>
          <p:cNvSpPr/>
          <p:nvPr/>
        </p:nvSpPr>
        <p:spPr>
          <a:xfrm>
            <a:off x="214200" y="928800"/>
            <a:ext cx="87156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яснительную записку, в которой конкретизируются общие цели ООО с учётом специфики учебного предмет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щую характеристику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места учебного предмета, курса в учебном плане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месте с завуче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ые, метапредметные и предметные результаты освоения конкретного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имерных программ и + «свое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матическое планирование с определением основных видов учебной деятельности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имерных программ и + «свое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учебно-методического и материально-технического обеспечения образовательного процес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что есть в ОУ на данный учебный год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изучения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3"/>
          <p:cNvSpPr/>
          <p:nvPr/>
        </p:nvSpPr>
        <p:spPr>
          <a:xfrm>
            <a:off x="179280" y="189000"/>
            <a:ext cx="3672000" cy="2288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 к условиям реализации основной образовательной программы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4749840" y="1126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др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4749840" y="61740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4749840" y="11224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ьно-тех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4749840" y="2133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о-метод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4749840" y="1627200"/>
            <a:ext cx="39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о-педаг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9"/>
          <p:cNvSpPr/>
          <p:nvPr/>
        </p:nvSpPr>
        <p:spPr>
          <a:xfrm>
            <a:off x="682560" y="30384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м реализации указанных требований должно бы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здание образовательной сре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0"/>
          <p:cNvSpPr/>
          <p:nvPr/>
        </p:nvSpPr>
        <p:spPr>
          <a:xfrm>
            <a:off x="573120" y="4199040"/>
            <a:ext cx="82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беспечивающей высоко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чество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1"/>
          <p:cNvSpPr/>
          <p:nvPr/>
        </p:nvSpPr>
        <p:spPr>
          <a:xfrm>
            <a:off x="573120" y="5089680"/>
            <a:ext cx="79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Гарантирующе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храну здоровь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бучаю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2"/>
          <p:cNvSpPr/>
          <p:nvPr/>
        </p:nvSpPr>
        <p:spPr>
          <a:xfrm>
            <a:off x="573120" y="5985000"/>
            <a:ext cx="81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емственн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о отношени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 начально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4043520" y="1150920"/>
            <a:ext cx="576000" cy="358920"/>
          </a:xfrm>
          <a:prstGeom prst="rightArrow">
            <a:avLst>
              <a:gd name="adj1" fmla="val 50000"/>
              <a:gd name="adj2" fmla="val 4012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635400" y="84240"/>
            <a:ext cx="78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и готовности ОУ к реализации ФГОС ОО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16440" y="765000"/>
            <a:ext cx="87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а и утверждена основная образовате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24000" y="1195560"/>
            <a:ext cx="828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ено повышение квалификации педагогических работников учреждения по проблеме реализации нового образовательного станд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24000" y="2235240"/>
            <a:ext cx="813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 план методической работы, обеспечивающей сопровождение реализации ФГОС ОО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24000" y="2971800"/>
            <a:ext cx="812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в образовательного учреждения, его локальные акты (положения, инструкции и т.д.) приведены в соответствие с требованиями ФГОС ОО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18600" y="4011480"/>
            <a:ext cx="66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 список учебников и учебных пособ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24000" y="4441680"/>
            <a:ext cx="808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ы локальные акты, регламентирующих установление заработной платы работников 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24000" y="517860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а оптимальная модель организации 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13560" y="5913360"/>
            <a:ext cx="82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ы необходимые материально-технические усло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19320" y="6345360"/>
            <a:ext cx="66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а информационно-образовательная сре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2"/>
          <p:cNvSpPr/>
          <p:nvPr/>
        </p:nvSpPr>
        <p:spPr>
          <a:xfrm>
            <a:off x="249120" y="11592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включает в себя треб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зультат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своения основной образовательной программы основ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труктуре основной образовательной 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снов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словиям реализ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сновной образовательной программы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136440" y="3546360"/>
            <a:ext cx="885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создан д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СЕГО ОБРАЗОВАТЕЛЬНОГО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ОБЩЕ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дит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ции О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цев ВСЕХ уров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нансистов ВСЕХ уров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набженцев ВСЕХ уров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503280" y="260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на компетентностную модель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503280" y="14842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Компетенция – совокупность определенных знаний, умений и навыков, в которых человек должен быть осведомлен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меть практический опыт рабо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503280" y="39798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но-деятельност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503280" y="5337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только передача ученикам знаний и опыт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 и организация их самостоятельной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4246560" y="765000"/>
            <a:ext cx="720720" cy="721080"/>
          </a:xfrm>
          <a:prstGeom prst="downArrow">
            <a:avLst>
              <a:gd name="adj1" fmla="val 50000"/>
              <a:gd name="adj2" fmla="val 2501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4246560" y="321300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4246560" y="457992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312920" y="115920"/>
            <a:ext cx="64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ниверсальные учебные действ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У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468360" y="7351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ые, Регулятивные, Коммуникатив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647640" y="170028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гулятив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УУД можно отне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амостоятельно определять цели своего обучения, ставить и формулировать для себя новые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амостоятельно планировать пути достижения целей, осознанно выбирать наиболее эффективные способы решения учебных и познавательных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оотносить свои действия с планируемыми результатами, осуществлять контроль свое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корректировать свои действия в соответствии с изменяющейся ситуа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оценивать правильность выполнения учебной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дение основами самоконтроля, самооценки, принятия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124000" y="1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УД формируются с помо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41440" y="375984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Формирование универсальных учебных действи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39640" y="440568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Формирование ИКТ-компетентности обучающихс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42160" y="5053320"/>
            <a:ext cx="58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сновы учебно-исследовательск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проектной деятельност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8560" y="6066360"/>
            <a:ext cx="78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сновы смыслового чтения и работа с тексто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025640" y="1627560"/>
            <a:ext cx="32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должен специально отслежива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УУД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каждом предм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909720" y="90792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5111640" y="90792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6253200" y="1844640"/>
            <a:ext cx="720720" cy="1871640"/>
          </a:xfrm>
          <a:prstGeom prst="downArrow">
            <a:avLst>
              <a:gd name="adj1" fmla="val 50000"/>
              <a:gd name="adj2" fmla="val 649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11360" y="1120320"/>
            <a:ext cx="777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щение с устройствами ИК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ксация изображений и зву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письменных сооб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графических объе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музыкальных и звуковых сооб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, восприятие и использование гипермедиасооб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уникация и социальное взаимодейств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 и организация хранения информ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информации, математическая обработка данных в исследован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ирование, проектирование и управлен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72320" y="333360"/>
            <a:ext cx="82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ИКТ-компетентности обучающих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826920" y="260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ОБРАЗОВАТЕЛЬ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2087640" y="325116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единяет в себе все программные документы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2087640" y="4869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документальной основой деятельности всего ОУ в текущем учеб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2087640" y="126828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язывает все процессы, происходящие в ОУ в единый образовательны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1116000" y="2239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ОБРАЗОВАТЕЛЬ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379440" y="2079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яснительная запи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450720" y="323208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38280" y="4437000"/>
            <a:ext cx="177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и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846000" y="124308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л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3329640" y="12430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держа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3429000" y="2079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развития У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3429000" y="299736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ы отдельных учебных предм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3429000" y="44370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воспитания и социал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2"/>
          <p:cNvSpPr/>
          <p:nvPr/>
        </p:nvSpPr>
        <p:spPr>
          <a:xfrm>
            <a:off x="3429000" y="56610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коррекцион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3"/>
          <p:cNvSpPr/>
          <p:nvPr/>
        </p:nvSpPr>
        <p:spPr>
          <a:xfrm>
            <a:off x="6365880" y="12430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4"/>
          <p:cNvSpPr/>
          <p:nvPr/>
        </p:nvSpPr>
        <p:spPr>
          <a:xfrm>
            <a:off x="6623280" y="207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пл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5"/>
          <p:cNvSpPr/>
          <p:nvPr/>
        </p:nvSpPr>
        <p:spPr>
          <a:xfrm>
            <a:off x="6515280" y="299736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условий реализации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3816360" y="80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де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250920" y="1844640"/>
            <a:ext cx="2592360" cy="345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3274920" y="1844640"/>
            <a:ext cx="2592360" cy="4897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6300720" y="1844640"/>
            <a:ext cx="2592360" cy="259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403280" y="18900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освоения основной 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250920" y="1557360"/>
            <a:ext cx="44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ы осво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учебных предметов, но ВСЕГО КОМПЛЕКСА О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5724360" y="326376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о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5726160" y="44467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5724360" y="56358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 rot="5400000">
            <a:off x="5939280" y="1053000"/>
            <a:ext cx="1081080" cy="309564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900000" y="3141720"/>
            <a:ext cx="31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оцениваютс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только фиксир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1440000" y="51004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и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3780000" y="4581360"/>
            <a:ext cx="1728720" cy="1440000"/>
          </a:xfrm>
          <a:prstGeom prst="leftArrowCallout">
            <a:avLst>
              <a:gd name="adj1" fmla="val 16205"/>
              <a:gd name="adj2" fmla="val 24403"/>
              <a:gd name="adj3" fmla="val 20064"/>
              <a:gd name="adj4" fmla="val 2176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>
            <a:off x="4284720" y="3357720"/>
            <a:ext cx="1152360" cy="288720"/>
          </a:xfrm>
          <a:prstGeom prst="leftArrow">
            <a:avLst>
              <a:gd name="adj1" fmla="val 50000"/>
              <a:gd name="adj2" fmla="val 997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07:25:08Z</dcterms:created>
  <dc:creator>Ивлев СА</dc:creator>
  <dc:description/>
  <dc:language>en-US</dc:language>
  <cp:lastModifiedBy>методист2</cp:lastModifiedBy>
  <dcterms:modified xsi:type="dcterms:W3CDTF">2013-07-04T06:30:45Z</dcterms:modified>
  <cp:revision>76</cp:revision>
  <dc:subject/>
  <dc:title>Слайд 1</dc:title>
</cp:coreProperties>
</file>